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6CEA-976C-40F0-861D-34EAD2697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5CCB-763A-4C4C-8AA2-20B0DBA2F85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597-5B21-488E-968F-2CBCF829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208-2755-4504-918C-A4049B9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B86-436A-4875-B0C8-F3228EF2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2CF-8893-45E4-96A7-8F74E090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2E1-BCD2-403C-830A-0EA2A39E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E01-B479-4136-A6B7-B0076C81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300-A618-4264-BEF0-5C08BAB6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DF0-E709-4C66-B71A-4E2FB839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483-D0FF-48F9-984C-38CC9FA3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DEA-074C-40D6-A406-6E0E026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AB8-A0E8-4665-AEC2-7A48BD42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978-8694-4F49-868C-163D3A2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7D5-CF21-49A7-B456-03EE8B959FA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ASSROOM RULES </a:t>
            </a:r>
            <a:r>
              <a:rPr b="0" lang="en-US" sz="4400" spc="-1" strike="noStrike">
                <a:solidFill>
                  <a:srgbClr val="004c2b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09480" y="6858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7. Do not print web pages without permiss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53352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8.  No hacking or unauthorized access to other students files will be permitte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9. All internet sites accessed must be appropriate for school.  Sites must not contain adult topics, foul language, racism, pornography, hate, or violenc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762120"/>
            <a:ext cx="79246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20. All students must first have on file and signed by a parent an internet usage form before he/she may use the internet or email. AUP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21. The form is available from the instructor or can be downloaded at class websi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895480" y="2286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9144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. You must be in your seat and ready to start class when the bell rings.  If you come in late, you will sign the “Late Sheet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5800" y="533520"/>
            <a:ext cx="79246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2. No food or drinks will be permitted around the computer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3. Do not “Wheel” around in your chai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4. Push your chair in at the end of clas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09480" y="838080"/>
            <a:ext cx="792504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5. Remain seated until the bell rings. If you are not seated you will stay behi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6. You will not access areas of the computer,  programs, or files that you have not been cleared to use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7. Stay out of the control panel and the system folde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09480" y="83808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8. Do not put any file or program in the trash with out permiss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9. Do not download anything without the teacher’s permiss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0. Do not copy programs to or from the computers without permission (it might be illegal)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68580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1. When you are finished with all of your assignments, you may use the computer lab to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Do homework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Do work for another clas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www.sporcle.c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7621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2. Help keep the room clean.  Throw your trash in the garbage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609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38080" y="60948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4. Using the computer to play games (other than those approved) will result in you losing your computer privileges. Repeated offense of this rule will result in administrative referral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38080" y="53352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5. You may listen to music throw your computer. No iPods! 1 earphone in &amp; 1 out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6. Chat rooms and instant messaging are not permitted at any time.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9:04:21Z</dcterms:created>
  <dc:creator>Houston ISD</dc:creator>
  <dc:description/>
  <dc:language>en-US</dc:language>
  <cp:lastModifiedBy>8736</cp:lastModifiedBy>
  <dcterms:modified xsi:type="dcterms:W3CDTF">2010-09-13T12:48:10Z</dcterms:modified>
  <cp:revision>23</cp:revision>
  <dc:subject/>
  <dc:title>Computer Applications</dc:title>
</cp:coreProperties>
</file>